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B658-D301-4F67-8659-6B0737CB7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9D65-151B-4A0A-BB90-9412C2C4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E439F-CE6A-491D-9EBA-E5D059EE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15CBBB-6CA7-42B9-BD0A-C78F4F6C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AD7DFB-CE38-4C2B-8F97-E227C962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7787F-32B5-45E1-84C3-B7DAED51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36DA5-7870-49DB-9C53-A59FD034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12C5B-7614-4334-9652-47EC1AA4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D71EFA-F98C-4E06-83BA-BE3AA6C3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A7FB9-E015-40B2-84CE-2275A55C5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8992FC-C00D-4E74-9DE9-BF52EDA5F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5AC64-B046-42CB-B8CF-ECBF82580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753C-AE1C-4290-A698-ADCC6C18E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96BF1-AF10-44FF-A4D6-60143B1D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84B98D-F654-4CDE-92CE-5C73F5AD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1BE4D3-F515-47DE-90C7-889FF4CF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0A7954-D9E6-4343-94F1-70D195DD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13D692-D099-4F35-A5EC-2D43EDD1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6C7434-4134-4DE0-8E51-00C1C3FB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8CF2BB-7AFF-4D4F-9F40-8F3CAF8C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C5EF34-804D-4D25-BFD1-8B99AA9B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AD88B6-3D46-4876-932D-79AD2354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FA1F69-D6AC-4708-9656-8224AEAAA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4DF0-9463-4B6C-9955-328B2497E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37F28-6252-46CF-8CA9-BC7EDD611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FAD42-E0C9-475B-ABA4-278092705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EA910-CAFC-4C5B-8A86-E7483DF1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D6B32-0AAE-4492-A2FF-DCC9059C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86959-161F-452D-9BD8-1B1371F0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8D6E8-FF2C-4493-9465-CE558DA4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75A92-E429-44E8-BFD1-FE8CD33C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1961E-4C08-46D4-8B4C-73C95B8F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812E6-34D1-4404-BD4A-BB5E2D25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BBF74-CA3A-48F3-ADA5-508544AE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E14F-1C49-41A4-BC98-1E7F717A5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2F510-FED3-45A8-91BC-E66D7892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4EB63-FE04-41C6-AC08-DF18DF029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BE31C-A79D-4697-968F-791159200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22A2B5-D670-4612-8D3F-20578EC3A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DFFA65-EE2A-4219-9C4D-C2A696B7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D97D28-490A-4E5F-9D1C-5CD1F1B1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31CEA3-BE0C-4226-92CA-46F84EB0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3EE6F6-E8FE-4FEA-8795-BDE0D1B1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09766B-4782-4263-BF6B-8C872735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B9C05-7184-41AE-A2A7-2812A1D3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26EF-7E05-478B-9238-830A97AF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C8194-E55F-406E-95C7-39ED1F14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0C79F6-461E-4015-BA93-0223ED83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7AD49B-6042-40C7-84C6-B8593CC8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C075CD-063E-4C87-AA4A-20E11BEA5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B3A1A4-ED64-42B6-9CE0-0FAE8B536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6CE6ED-275E-42D9-AB72-75A6EC613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D03CA6-5F50-4323-9110-A057CA61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A3C05B-4AAA-4B85-9FA2-6847B8FE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F77741-7137-464C-9B35-17CB46C6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DCBF55-B310-4635-96EC-ADE57512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F07D-C0C9-4087-B6EC-10941C88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59A7CA-FC83-40F3-9340-293C5CF6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2128CD-EE47-4BF3-AD65-AB9C2E8D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1CCBFD-C5A9-4D9F-B450-92275057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A4CC38-DC4A-46CB-AE64-B645B15C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BE9105-1D27-4AA8-B92D-7A290245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9BB578-CD4E-4096-AD54-74A5514BA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B8F0D4-FF56-483A-9383-E807AFB32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B16E14-5531-49B3-8A99-043327E0C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100E42-7C18-49CA-AD10-C4654D57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DACA2E-9C33-4FF3-B337-C19E11C1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8247-1542-4D71-B78F-DDF58FD9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664492-78E8-48E6-ACCC-05B66C55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F5209F-55DD-4577-A31C-919B4B2D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52647C-DB0C-4C62-A48A-E2656361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A0542E-EFB0-40C2-A9E6-095C8BD4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F56C4F-2E7F-41FE-81BF-0A1051F7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579571-4378-45D6-87AA-D6A9E941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D6FAF7-9430-4257-ACEB-5F701E89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4A9BCE-225C-4326-81DB-3F33EB228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3496B6-8791-430A-82CA-F064C694E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2D673F-2E9B-4FE0-9A5F-43A45982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37DD-4D20-44A3-9DE9-D5A40475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841EB3-C6D0-49DB-ACF9-7623CB8E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429F43-3323-4216-B17D-B7403F1F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97DB26-C6FF-4293-B477-B0547723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D39ADA-58EA-44C1-A860-09DB9E17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8F3FC2-8640-4CCF-A30F-D77E60F7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C2B111-583D-4E8E-9A39-88FFE3C8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D9130B-9DDD-4D6C-B84F-8BD8D9A8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BBBFCF-7C28-4543-9BB2-9ACED2B2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604A79-10C7-452C-AD91-B8DA2C63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3B9B73-E53F-4AAD-877D-067EEA37B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F70B3-E9A9-413B-B5AC-F0104F93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AEE159-129F-4AF5-A952-801B095F0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DE0DF2-AC49-4066-A3EE-5FFBBB4F4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ADDD1F-B083-4D25-8250-9B447C47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5A1E9C-8102-4CB0-B897-84557546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A6243E-8F79-46B5-9CF4-AC74D3B6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670D3C-8406-474C-9F20-924F00E7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1A6AFF-3770-4650-A31F-3908C6E0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7D2B3E-595A-40DD-80F3-DC9ECB3A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B80450-0DBD-47CF-AB76-138086CB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4A8F73-BDEF-400C-AD4A-9556E75E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9CCF-59E3-4B08-B043-936A50AD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CDB90B-F5C9-4B31-AD74-A5D9D819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4C4536-6053-40FD-A181-48FAF5691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57BE80-090A-4E87-9306-F0A303AFA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3E79B4-8A2C-4132-AABE-E2FE59091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EC83B6-BE15-4DCA-BEB7-AE50DF43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3195D4-DE21-401F-821E-40D2612E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2607C0-3067-448A-8D83-DC8B0A44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637990-C9D3-4A1C-9B04-7F448935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E41A83-FC2E-4EFB-AF8E-37FB2C85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AFC4DB-83DB-487F-B80B-E43B4C2A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3B03-8A9F-4121-9999-6210C6E4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8E03-E381-4CCC-AF71-DDA3954D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01D7B6-552C-4EF5-85FA-A832651D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BE192D-1BB8-441C-95FC-BB859DE1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B3F42B-CC74-41EC-9F26-145B3EC1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3A82E9-C3EF-4191-B06B-CB6663FBF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4D90CC-E277-43FB-A3F7-746C5690F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23327A-56FA-4046-96FB-B4D1568AD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91D1F6-0421-49A6-AD51-E5F76EC7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640DAA-099D-45A9-A360-35F79BED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A47786-5ED2-4293-A8F6-5BFDE81D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ACD86E-4A8D-4C00-B1EC-A5A8AE22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012B-96DC-404B-AC53-FEA637D5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306948-63E1-4AAD-ACA7-0F5950D7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479309-6177-4A9F-B527-BC299E07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262BD9-C036-49BF-BEF2-EF4DD512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BD0818-C1E5-4D76-A33D-40B8F054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D7F31A-88A9-4BF8-97DE-955C410B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97C284-FD04-49AA-943F-BA3A297CE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10D674-A316-4A0E-8501-7B3653FF8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8BF8F1-94CE-4F6E-8BF7-9805CFE8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F7091B-DD2B-4BD6-8EEF-8E08A01C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5A676D-2846-43D6-BD0D-671831B8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B72B-863F-45F5-9A5F-26C7B1F4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BF4C20-DD6B-4268-96AC-751397C1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F03030-59EB-415D-80A3-EC50FF81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C1C2BF-380A-4DBE-B560-8B897715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1842A6-61FF-4941-8242-D855318E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627435-584F-41E4-853D-67F008BB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247A2F-5651-4D5B-8042-545280AD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9AD887-A1CA-4EE7-AEAA-F828C718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D95E89-D9E6-4168-B813-E868B309F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9497BB-2252-4C46-91D9-14CD53F52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D9D075-386B-45A8-A38B-0B037A102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3BFA-B5E5-4221-9EB9-37447DF8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8E6F2C-616A-42BC-BAA8-F9BD5827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4EB8CA-90D2-48D1-879B-65797D5F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B8D7BC-B01C-42BC-A52A-201B4A0E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6E4051-519E-4582-A440-30043637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2AE848-8E30-4B01-B54A-AB93A48D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051C95-6287-4474-B617-76162E55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6B54D0-0B98-4E68-BE78-5EA67EA9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27CF65-0BF1-41EF-9C76-22541C3A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1E161E-57EA-4BC5-B3F4-33728FD7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09DB27-4810-41E3-BA9A-AEF3A4582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B2D0-F83B-4043-ADC4-70362A69B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C1634B-ED12-48D1-95D6-CCB42C13D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797E9D-741F-4833-A298-238BB7E72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9015F0-73DF-41E1-A31D-65D547EE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459867-F5E9-457D-8D36-390F53D2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953C23-F065-4B7B-B662-54757E48F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D52500-70A7-4459-9A8E-E842BDD9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1DAFB3-C3B9-4EFE-B399-13BCA274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F0430B-CA4F-49D2-86E2-37C8AB4D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9139E9-E292-41AD-A9F4-E3825791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F31730-7370-4CF2-BAB9-6DB4B5EA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D453B-82D6-4217-AAFB-4065851AF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90AB79-61B7-457C-8F94-8A94E26D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D4A6C6-7E06-48C5-A7F1-353C28578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FAC2F5-CE3B-41FF-9A27-87E0EBD0D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7C0CEE-67CB-4CB1-ABF9-4E80AA026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C5E766-7EAA-45E9-AAE4-DC76537A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E1F2DB-8387-49C4-92F0-3570B8ED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FD8CD3-8214-447E-BA70-F9B2E365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BC22A4-6381-41E6-84B2-DD114133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59B3DE-B1FB-481D-9C76-53ECD2BF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BA20CE-3033-49B3-A1DE-152EBA8C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AB0EB-6853-4A08-907A-EBA59113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220F37-AE04-4935-AA16-EE2BE8EE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7E1DDC-F2AA-41B2-8053-7ED3E83A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97186C-00F1-46BE-BB99-DB5FBD95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4204B2-3F88-4D95-8A21-4A72694F2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547EA2-DF14-4940-AEBF-A2BA9F006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C19E84-193C-40DC-B0A8-3E4954DEC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D8A26E-52A5-436B-9FB6-ED3044C7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65A4DA-86CE-439E-ACA2-D9B5350D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97223F-690E-44E4-9024-A40F8F46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112022-65E2-476B-8B66-24DF603C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4656A-E568-45F6-A629-F203AE2C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A3BEAD-A067-4FBF-AAE2-A1F5DDCA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4271C2-7111-4DD9-8B77-0D5D0D66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0EC7A8-6D3A-46E7-A2A5-2B4B051B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D34231-0EBC-4106-915C-8DD4536B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5A541F-E107-4421-AC67-527850D0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FB8E43-1395-4E0E-ACA9-A05FAD4A6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24D005-C0A6-47CE-AE4B-400B5DB70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3E986-E0EC-4938-84C6-FF7C3211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3AC19-DFD9-43B1-B268-F53B98BD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EC6F-D8D4-4E8E-B3AE-85C126B8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B723F-A322-4A5A-8EC3-710E8B53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3BAAF-3EC6-40EB-AE37-D4300A43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4E181-AAFD-42A8-B398-9F61CC20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1DA9F-76C0-4213-896D-2E5B36DF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0230E-DE9B-49BD-A616-570BA20B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52839-4E4E-4C0C-97A8-2D5A8945A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B423A-950A-4B81-9340-27D449242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BAD23-B95D-432F-ACDA-1249E01EE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353E8-C207-4609-B58C-71685FD8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E0D27-A41C-4E56-BF34-FD236995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EA52-242D-4430-A4C7-E69A6D63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F646C-58A5-47A9-AD1C-6C408385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6F131-9AD9-4C16-B8AE-ADEB5990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E6DFB-A127-4EEB-AC98-D3DDC3BC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417EE-67D0-4AE4-825A-AEE36185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CC44D-6440-4EC0-BE5E-883380C7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65DFC-5DE1-45FD-9F45-FF8C91E2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86B35-5B67-414C-BEA4-B3886F92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A3283-A1FA-4336-AF38-590E3A133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436EB-3F11-4F87-9219-C3FC43D84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2B5C3-230F-4FDB-8BB3-CF68709D8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1317-30CC-45CF-BF46-ACE68388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26B40-DA83-4647-97E2-715656CD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EB285-1BF6-44FC-A81F-7367A456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EE8D0-0F89-4FFE-9178-6FD371B3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BEFBD-FB21-4EB4-A29D-B0004EDE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2B598-FB03-4D78-96E6-3E898975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AA27B-9764-4EE8-8B53-4272449C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F78E2-FA58-40E1-8E0C-29662ED1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785F0-05F6-456C-89EF-4505A0B0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BA62F-1E35-49BC-B36B-4EA84D5F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953B9-FCD4-4048-BA80-C44BF6D9F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5DD2-FD4C-4D26-A36E-74F4B5CF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8C2D8-51B2-423F-BF7A-B2914562C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DFBD8-EA2B-4FD2-8542-650F77E55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7382E-A794-47AA-9334-6AA58DAD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A6293-2029-4079-9542-224735C7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3DC9F-87E9-4491-8BBE-7987D4A4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67635-39E4-40DD-8F97-DDEB7936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D053D-B251-4DE2-A239-F489B3A6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225F4-CB4C-42AD-81C9-EB3D595E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85691-FB25-403E-945C-2C91C9EA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B0588-B27D-4DBF-AFEE-B0350B34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A042-4D66-4738-97F2-38C643F0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77CE7-4807-45BF-A776-48669DB0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98FE1-EE26-4FE6-A289-468E50702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B1ECC-5ED0-4A23-A15D-FDAD989D6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AA1CA-BAB6-4BE1-9CA5-2DD63C32A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20365-9B9F-4DDA-807A-07F69AC7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C8554-B3E3-4774-8EE1-05ACCDFE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6A7C1-929F-4E73-89BE-385AD4A4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F63F2-D85D-4A73-B1C4-1BDAAD8D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BA3D6-6760-43A4-B250-7F897B39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06A1B-BE51-4D7C-826D-577D7A2E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4FE5-AF8C-4D0A-9A0D-98B2DA3B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2B6D6-B044-436F-B57D-42C652C8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E32BD-C315-4981-91CE-F72C2C1A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16280-B24C-4E27-A736-49C7CF31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6F7CA-8187-4AE9-8713-D964A15AA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19A04-7C58-4BD5-810D-766DE29CF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441C7-DD70-4481-BDD2-F1EFF5713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4C5FA-3AE2-4826-B6FF-DD0EDA0E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1510B-7C4C-404D-B9E9-EF363F6E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0D48E-CC2F-43BE-82A3-4DB44813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CFA83-0DF1-4C5B-A900-D1309983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CC7F-AB0B-42F7-B9CC-17992773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B6AF6-DD16-4AF2-A85B-5A25EC0A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2FE2C-1B9A-4F79-80F9-DB258EB9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3F1F0-ECE2-452B-8D63-9721D14B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627BD-DA8C-47D2-86AF-1C5C252A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0ECE1-8E6D-4C45-9428-B4308DA6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88FED-EC81-4DE4-81F4-96C9E38B5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E64F3-1C29-45AB-92ED-E6EF78765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7C8BF-0F1A-4754-B63D-9E944F2F7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B595B-3158-40B1-A1F6-EB4D8040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3DA183-F5BC-430A-B846-AD13441A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AC66-F26C-4347-92D4-3ADB38DFA9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3172-9578-42DC-83FF-51B67A6784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5C2B-E045-4427-BC6C-8D96C191A2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88B4-67CE-456E-A8DD-A09AB13FB0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1CCC-5197-4C02-873A-D3C55554BD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2CC6-0EC5-4467-94A2-07B521C131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3E08-962D-486A-9D57-20E7533B03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E8B7-9731-45C2-BEA8-6D87915694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F3B3-4464-4B96-8F00-C039A801B5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1219-8B10-4E3D-86B0-02C37A3909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2859-28C8-4073-B13F-502905D44B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3079-ED76-41E9-9418-92C6945608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2BD4-05A5-4919-80B5-A7053C0274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E81E-CE83-47B4-984A-1C27288769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B436-75A6-4ED1-9BFA-7B8AB88280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1CA2-BB4A-47C5-90DC-4A52B0FDA7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651C-D2F4-4B38-B537-CCB0B188E5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98917-6497-41D8-886C-4961A4CC13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FC6B-8466-4E5D-8CD8-C6CA4A2B73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40AA-CC78-4BFD-BFBF-2CA2FFD220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F698-0007-4626-B802-86A9DDBFDB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8B78-2777-45FF-85FC-B4ADD451E2C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2B8D-3E48-4670-BE08-CC04E1848D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B70A-D191-4061-A58E-A342C14532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1A10-C3C9-4BD0-9A1F-8510ABDCB9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72A0-A9DB-489E-BBE9-A770A42CBB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FC6C-01A5-47B9-AB03-2B94DD742A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614B-ACEF-44AB-B975-0D31853620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2EA5-1774-4385-951F-6019B05C38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9BA2-9608-4B19-9BAC-BC94111C85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A538-3D85-426C-B2AE-FFA99683B4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DA58-B1C8-406F-8EC9-D5675B5253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E24E-7D01-419B-8F31-838FD8828C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23D1-7F43-4013-B94A-C2577B2671F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6F48-EC7D-4809-973F-FC64D176AC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E979-FEBB-4A4A-A371-8F9BE4870B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9DCF-5A5B-4956-81E6-C0C872FB98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2DE8-A440-44A9-8AD4-763B64FFD3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3749-2F0C-4544-83AC-080F366384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5D42-A297-4D82-8A40-88E92C65C6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E1D2-0D12-45D0-95A6-A2F9A27D61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14D8-8883-46A7-BAA5-9E9647C22F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93600" y="3105000"/>
            <a:ext cx="906300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414360" y="966960"/>
            <a:ext cx="8315280" cy="560988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1476360" y="4365720"/>
            <a:ext cx="3527280" cy="4474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1619280" y="5084640"/>
            <a:ext cx="3527280" cy="447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1619280" y="5805360"/>
            <a:ext cx="3527280" cy="44784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5364000" y="4363920"/>
            <a:ext cx="3527640" cy="447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5364000" y="5084640"/>
            <a:ext cx="3527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图片 1" descr=""/>
          <p:cNvPicPr/>
          <p:nvPr/>
        </p:nvPicPr>
        <p:blipFill>
          <a:blip r:embed="rId1"/>
          <a:stretch/>
        </p:blipFill>
        <p:spPr>
          <a:xfrm>
            <a:off x="409680" y="1652760"/>
            <a:ext cx="8324640" cy="35524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2"/>
          <a:stretch/>
        </p:blipFill>
        <p:spPr>
          <a:xfrm>
            <a:off x="900000" y="2665440"/>
            <a:ext cx="3600720" cy="44748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3"/>
          <a:stretch/>
        </p:blipFill>
        <p:spPr>
          <a:xfrm>
            <a:off x="900000" y="3357720"/>
            <a:ext cx="3600720" cy="44748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4"/>
          <a:stretch/>
        </p:blipFill>
        <p:spPr>
          <a:xfrm>
            <a:off x="5219640" y="2651040"/>
            <a:ext cx="3600360" cy="4478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5"/>
          <a:stretch/>
        </p:blipFill>
        <p:spPr>
          <a:xfrm>
            <a:off x="5219640" y="3343320"/>
            <a:ext cx="3600360" cy="4474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6"/>
          <a:stretch/>
        </p:blipFill>
        <p:spPr>
          <a:xfrm>
            <a:off x="5219640" y="4076640"/>
            <a:ext cx="3600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图片 1" descr=""/>
          <p:cNvPicPr/>
          <p:nvPr/>
        </p:nvPicPr>
        <p:blipFill>
          <a:blip r:embed="rId1"/>
          <a:stretch/>
        </p:blipFill>
        <p:spPr>
          <a:xfrm>
            <a:off x="171360" y="795240"/>
            <a:ext cx="8801280" cy="595332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2"/>
          <a:stretch/>
        </p:blipFill>
        <p:spPr>
          <a:xfrm>
            <a:off x="1042920" y="3989520"/>
            <a:ext cx="3024360" cy="44748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3"/>
          <a:stretch/>
        </p:blipFill>
        <p:spPr>
          <a:xfrm>
            <a:off x="4788000" y="3976560"/>
            <a:ext cx="3024000" cy="4478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4"/>
          <a:stretch/>
        </p:blipFill>
        <p:spPr>
          <a:xfrm>
            <a:off x="2411280" y="4695840"/>
            <a:ext cx="3024360" cy="44784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5"/>
          <a:stretch/>
        </p:blipFill>
        <p:spPr>
          <a:xfrm>
            <a:off x="1403280" y="5459400"/>
            <a:ext cx="2232000" cy="4478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6"/>
          <a:stretch/>
        </p:blipFill>
        <p:spPr>
          <a:xfrm>
            <a:off x="4356000" y="5459400"/>
            <a:ext cx="2232000" cy="447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7"/>
          <a:stretch/>
        </p:blipFill>
        <p:spPr>
          <a:xfrm>
            <a:off x="2411280" y="6208560"/>
            <a:ext cx="3889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1" descr=""/>
          <p:cNvPicPr/>
          <p:nvPr/>
        </p:nvPicPr>
        <p:blipFill>
          <a:blip r:embed="rId1"/>
          <a:stretch/>
        </p:blipFill>
        <p:spPr>
          <a:xfrm>
            <a:off x="888840" y="338040"/>
            <a:ext cx="7545600" cy="63867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1403280" y="3716280"/>
            <a:ext cx="5040360" cy="447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1403280" y="4365720"/>
            <a:ext cx="5040360" cy="4474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1332000" y="4941720"/>
            <a:ext cx="5040360" cy="4478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1403280" y="5589720"/>
            <a:ext cx="5040360" cy="4474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6"/>
          <a:stretch/>
        </p:blipFill>
        <p:spPr>
          <a:xfrm>
            <a:off x="1258920" y="6280200"/>
            <a:ext cx="5040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图片 1" descr=""/>
          <p:cNvPicPr/>
          <p:nvPr/>
        </p:nvPicPr>
        <p:blipFill>
          <a:blip r:embed="rId1"/>
          <a:stretch/>
        </p:blipFill>
        <p:spPr>
          <a:xfrm>
            <a:off x="181080" y="947880"/>
            <a:ext cx="8781840" cy="49622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2"/>
          <a:stretch/>
        </p:blipFill>
        <p:spPr>
          <a:xfrm>
            <a:off x="900000" y="2981160"/>
            <a:ext cx="554364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3"/>
          <a:stretch/>
        </p:blipFill>
        <p:spPr>
          <a:xfrm>
            <a:off x="971640" y="3573360"/>
            <a:ext cx="5543640" cy="4478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4"/>
          <a:stretch/>
        </p:blipFill>
        <p:spPr>
          <a:xfrm>
            <a:off x="971640" y="4149720"/>
            <a:ext cx="5543640" cy="447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5"/>
          <a:stretch/>
        </p:blipFill>
        <p:spPr>
          <a:xfrm>
            <a:off x="971640" y="4724280"/>
            <a:ext cx="554364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6"/>
          <a:stretch/>
        </p:blipFill>
        <p:spPr>
          <a:xfrm>
            <a:off x="900000" y="5343480"/>
            <a:ext cx="5543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图片 1" descr=""/>
          <p:cNvPicPr/>
          <p:nvPr/>
        </p:nvPicPr>
        <p:blipFill>
          <a:blip r:embed="rId1"/>
          <a:stretch/>
        </p:blipFill>
        <p:spPr>
          <a:xfrm>
            <a:off x="523800" y="219240"/>
            <a:ext cx="8096400" cy="65433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1187280" y="3787920"/>
            <a:ext cx="4969080" cy="447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1187280" y="4437000"/>
            <a:ext cx="496908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4"/>
          <a:stretch/>
        </p:blipFill>
        <p:spPr>
          <a:xfrm>
            <a:off x="1332000" y="5013360"/>
            <a:ext cx="4968720" cy="4474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5"/>
          <a:stretch/>
        </p:blipFill>
        <p:spPr>
          <a:xfrm>
            <a:off x="1332000" y="5516640"/>
            <a:ext cx="4968720" cy="4474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6"/>
          <a:stretch/>
        </p:blipFill>
        <p:spPr>
          <a:xfrm>
            <a:off x="900000" y="6135840"/>
            <a:ext cx="4969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233280" y="1033560"/>
            <a:ext cx="8677440" cy="47908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1042920" y="2565360"/>
            <a:ext cx="5545080" cy="4478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1042920" y="3141720"/>
            <a:ext cx="5545080" cy="447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4"/>
          <a:stretch/>
        </p:blipFill>
        <p:spPr>
          <a:xfrm>
            <a:off x="1116000" y="3716280"/>
            <a:ext cx="5545080" cy="4478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5"/>
          <a:stretch/>
        </p:blipFill>
        <p:spPr>
          <a:xfrm>
            <a:off x="1116000" y="4292640"/>
            <a:ext cx="5545080" cy="4474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6"/>
          <a:stretch/>
        </p:blipFill>
        <p:spPr>
          <a:xfrm>
            <a:off x="900000" y="4927680"/>
            <a:ext cx="5545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图片 1" descr=""/>
          <p:cNvPicPr/>
          <p:nvPr/>
        </p:nvPicPr>
        <p:blipFill>
          <a:blip r:embed="rId1"/>
          <a:stretch/>
        </p:blipFill>
        <p:spPr>
          <a:xfrm>
            <a:off x="328680" y="939960"/>
            <a:ext cx="8486640" cy="54194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2"/>
          <a:stretch/>
        </p:blipFill>
        <p:spPr>
          <a:xfrm>
            <a:off x="1042920" y="3514680"/>
            <a:ext cx="4969080" cy="4478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3"/>
          <a:stretch/>
        </p:blipFill>
        <p:spPr>
          <a:xfrm>
            <a:off x="1042920" y="4149720"/>
            <a:ext cx="4969080" cy="4478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4"/>
          <a:stretch/>
        </p:blipFill>
        <p:spPr>
          <a:xfrm>
            <a:off x="971640" y="4653000"/>
            <a:ext cx="4968720" cy="4474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5"/>
          <a:stretch/>
        </p:blipFill>
        <p:spPr>
          <a:xfrm>
            <a:off x="971640" y="5300640"/>
            <a:ext cx="4968720" cy="4478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6"/>
          <a:stretch/>
        </p:blipFill>
        <p:spPr>
          <a:xfrm>
            <a:off x="900000" y="5877000"/>
            <a:ext cx="4969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16:03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